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DA0-A495-4284-9656-61E1909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C1E-A893-4AFC-943A-1D18B19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9B0-AA42-40F4-BEB0-952C9A67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F94-ED62-46B7-B053-3F4730F3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D0A-01B3-4EED-8BCA-066DA64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CB0-C090-47EC-A5F1-4BB6129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84E-DF55-4899-89A5-2058E0DE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91D-CA3D-4C2C-900A-26EB2498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9B5-0D5D-48F6-8303-C98605ED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461-0D3C-4A4A-8C06-E5F969E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6E2-D2B0-4BE7-98D0-4DC888B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1AE-6CE8-46A6-B775-69EAC03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857-718E-4D70-B223-6E72AF94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6858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cc00"/>
                </a:solidFill>
                <a:latin typeface="Arial Unicode MS"/>
              </a:rPr>
              <a:t>Always On The Go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 Unicode MS"/>
              </a:rPr>
              <a:t>FUZE Vitalize Will Keep You That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73152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76920" y="4952880"/>
            <a:ext cx="1981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eyonce drinks a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FUZE Vitaliz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before every show to keep her act fresh. Drink Vitalize to keep you going  through the day, no matter how small your task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5:05:56Z</dcterms:created>
  <dc:creator>WPS</dc:creator>
  <dc:description/>
  <dc:language>en-US</dc:language>
  <cp:lastModifiedBy>WPS</cp:lastModifiedBy>
  <dcterms:modified xsi:type="dcterms:W3CDTF">2008-06-04T14:43:10Z</dcterms:modified>
  <cp:revision>4</cp:revision>
  <dc:subject/>
  <dc:title>Slide 1</dc:title>
</cp:coreProperties>
</file>